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F340-58C1-4389-9092-968943D2E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C138-DE39-4BC0-9D2C-8018ED50F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B5E7-0696-4758-9FF4-493AED5DA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5769-5823-4036-AF6E-6B0622188A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122D-EC53-4414-898A-2BCEF2CBA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0132-4160-405E-BEEF-C42D5070D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5659-83D9-4400-B8FD-2F8F3557C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A311-B886-4CE2-98CA-94F7F9E92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5B62-6E7A-4254-B007-B192CBEE5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D708D-C69D-4DF1-8A38-7D09E6DF7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54A1-5E00-4E7F-A430-FB59FAC74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0B8F-5180-4E1F-9CAF-79416BFAD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DC57-CE73-49E3-A88B-9ECCE84ABF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 rot="16162200">
            <a:off x="-2553840" y="2854080"/>
            <a:ext cx="6476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ractices &amp; Lear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28800" y="762120"/>
            <a:ext cx="6705720" cy="5741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dca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earning Outco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Name at least 4 factors that you need to consider when organising a training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Name and describe the 4 different presentations of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47920" y="91440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n introducing a new skill or sequence of movements, the coach has to decide upon the best option that allows the performer to create a clear mental picture and allows for the development of a sound kinaesthetic aware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3124080"/>
            <a:ext cx="7391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In groups you will be given a teaching / practice method information c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You will need to present the information to the rest of the class and teach them a skill using that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76360" y="304920"/>
            <a:ext cx="728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Types of Practice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371600"/>
            <a:ext cx="74358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fter the learner has attempted the skill after being instructed (presentation of practice) they now need to spend time developing and refining the movement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coach or teacher has to decide the best type of practice to use to ensu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earning actually occ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otivation is mainta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atigue does not limit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variable factors are the periods of active work and recovery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763640" y="457200"/>
            <a:ext cx="684684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Massed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006560" y="1413000"/>
            <a:ext cx="8137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Involves repeated practice of ski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Little or no recovery periods between blocks of t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2590920"/>
            <a:ext cx="7210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mic Sans MS"/>
              </a:rPr>
              <a:t>Ideally used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kills are discrete or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former is well motiv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former is experie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former has a high level of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Must be careful to avoid boredom, fatigue and over-traini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76360" y="380880"/>
            <a:ext cx="713412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Distributed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371600"/>
            <a:ext cx="7956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volves repeated practice of skills with a recovery period before repetition of skill or development of a new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covery period may involve some form of activity or mental rehearsal, feedback, or simply time to refocus and motivate per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3232080"/>
            <a:ext cx="7583400" cy="36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ff"/>
                </a:solidFill>
                <a:latin typeface="Comic Sans MS"/>
              </a:rPr>
              <a:t>Ideally used wh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kills are new and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petition of gross skills / physically demanding 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w levels of motivation / fi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former has short attention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covery period is needed for feedback /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Must be careful to avoid de-motivation, loss of concentration, ill-discipline within group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835280" y="692280"/>
            <a:ext cx="66992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Variable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2895480"/>
            <a:ext cx="66135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volves coach using a mixture of both massed and distributed practice within one s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is will help to maintain the interest and motivation  levels of the performer and limits the effects of fat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63640" y="189000"/>
            <a:ext cx="683424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Mental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1125360"/>
            <a:ext cx="7362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volves the cognitive rehearsal of a skill without physical mov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articularly useful as it may be used before, during and after com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 performer attempts to create a picture in their mind of themselves carrying out the sk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lso referred to as ‘mental rehearsal’ or ‘imagery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wo ways they can do th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4292640"/>
            <a:ext cx="3889440" cy="26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Involves the performer seeing themselves from within completing the action or in the situation and consequently creating a kinaesthetic feel of the actual mov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4221000"/>
            <a:ext cx="3627720" cy="271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Involves the performer seeing themselves as if they were a spectator or on film. They actually imagine watching themselves performing the skil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2920" y="189000"/>
            <a:ext cx="20574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Arial Black"/>
              </a:rPr>
              <a:t>?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050920" y="765000"/>
            <a:ext cx="129564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Arial Black"/>
              </a:rPr>
              <a:t>?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43280" y="1341360"/>
            <a:ext cx="914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Arial Black"/>
              </a:rPr>
              <a:t>?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00720" y="0"/>
            <a:ext cx="44193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Think of as many 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sporting examples 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where 'imagery' 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is used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4005360"/>
            <a:ext cx="2160360" cy="19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gby player about to take a conversion / penalty k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2924280"/>
            <a:ext cx="1854360" cy="19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unning the race 100m – Linford Chris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5157720"/>
            <a:ext cx="25909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rampolinist before their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809880"/>
            <a:ext cx="25905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gh jumper about to 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04000" y="5229360"/>
            <a:ext cx="20574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ce Dancer before their ic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304920"/>
            <a:ext cx="78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e a list of when you think it would be ideal to use Mental Practic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1752480"/>
            <a:ext cx="2971800" cy="13136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arning time needs to be reduced (especially for no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676520"/>
            <a:ext cx="3048120" cy="1618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perienced performers need to prepare for alternative options prior to com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3645000"/>
            <a:ext cx="2521080" cy="1618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former needs to concentrate on developing specific aspects or the overall s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3645000"/>
            <a:ext cx="2743200" cy="7038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ousal levels need to be contro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5638680"/>
            <a:ext cx="2819520" cy="7038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fidence needs to be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4952880"/>
            <a:ext cx="3200400" cy="13136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former is injured and some form of practice needs to be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286000" y="2133720"/>
            <a:ext cx="4952880" cy="21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Optimising Mental 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Practice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962160" y="1676520"/>
            <a:ext cx="228600" cy="761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8380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ding a quiet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4876920"/>
            <a:ext cx="24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cusing on the task and creating a clear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724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couraging successful outcomes no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357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gular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858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during recovery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324480" y="1752120"/>
            <a:ext cx="4572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2852640"/>
            <a:ext cx="86508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66520" y="4038480"/>
            <a:ext cx="838440" cy="838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657600"/>
            <a:ext cx="68580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5120" y="304920"/>
            <a:ext cx="6705360" cy="4692960"/>
          </a:xfrm>
          <a:prstGeom prst="rect">
            <a:avLst/>
          </a:prstGeom>
          <a:gradFill rotWithShape="0">
            <a:gsLst>
              <a:gs pos="0">
                <a:srgbClr val="ec8c00"/>
              </a:gs>
              <a:gs pos="100000">
                <a:srgbClr val="ffdfc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MEWORK TAS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 each of the following skills choose how you would practice and teach each to both a novice and experienced performer. Explain your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OLF SWING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OLF PUTT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OLF C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55520" y="1700280"/>
            <a:ext cx="2249640" cy="5157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51280" y="456264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04000" y="4579920"/>
            <a:ext cx="2044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990720"/>
            <a:ext cx="7010280" cy="53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numerous ways to teach new skills and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me are more effective tha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most appropriate method is used for a particular group / individual th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t will take less time to learn the skill                                       - Motivation will remain high                           - Retain information to allow progress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76520" y="152280"/>
            <a:ext cx="7162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5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Times New Roman"/>
              </a:rPr>
              <a:t>Planning a Training Se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6765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the often limited time during a training session is to be optimised, various factors must be considered. Learning is often limited by lack of thought and pre-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335268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mic Sans MS"/>
              </a:rPr>
              <a:t>What factors do we need to consider under the following headings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434340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cc"/>
                </a:solidFill>
                <a:latin typeface="Comic Sans MS"/>
              </a:rPr>
              <a:t>Nature of the Performer/ Learner/ Particip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495288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cc"/>
                </a:solidFill>
                <a:latin typeface="Comic Sans MS"/>
              </a:rPr>
              <a:t>Nature of Ta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556272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cc"/>
                </a:solidFill>
                <a:latin typeface="Comic Sans MS"/>
              </a:rPr>
              <a:t>Experience of Coach / Tea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617220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cc"/>
                </a:solidFill>
                <a:latin typeface="Comic Sans MS"/>
              </a:rPr>
              <a:t>Environmental Cond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295280" y="152280"/>
          <a:ext cx="7696440" cy="650412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1886040"/>
                <a:gridCol w="1924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performer / learner /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the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xperience of teacher /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nvironmental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vious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g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ical &amp; mental 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ze of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/clos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ss/fine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rete / serial/continuous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 / externally pac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e / comple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or high organisational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 of knowledge relating to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tionship with group or lear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ies and equipment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rpose of the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avail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371600" y="1371600"/>
            <a:ext cx="167652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371600"/>
            <a:ext cx="190512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295280" y="152280"/>
          <a:ext cx="7696440" cy="650412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1886040"/>
                <a:gridCol w="1924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performer / learner /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the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xperience of teacher /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nvironmental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vious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g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ical &amp; mental 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ze of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/clos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ss/fine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rete / serial/continuous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 / externally pac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e / comple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or high organisational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 of knowledge relating to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tionship with group or lear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ies and equipment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rpose of the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avail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00400" y="1371600"/>
            <a:ext cx="190512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95280" y="152280"/>
          <a:ext cx="7696440" cy="650412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1886040"/>
                <a:gridCol w="1924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performer / learner /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the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xperience of teacher /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nvironmental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vious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g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ical &amp; mental 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ze of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/clos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ss/fine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rete / serial/continuous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 / externally pac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e / comple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or high organisational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 of knowledge relating to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tionship with group or lear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ies and equipment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rpose of the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avail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525780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95280" y="152280"/>
          <a:ext cx="7696440" cy="650412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1886040"/>
                <a:gridCol w="1924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performer / learner /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the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xperience of teacher /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nvironmental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vious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g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ical &amp; mental 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ze of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/clos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ss/fine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rete / serial/continuous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 / externally pac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e / comple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or high organisational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 of knowledge relating to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tionship with group or lear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ies and equipment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rpose of the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avail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716292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295280" y="152280"/>
          <a:ext cx="7696440" cy="650412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1886040"/>
                <a:gridCol w="1924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performer / learner /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the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xperience of teacher /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nvironmental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vious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g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ical &amp; mental 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ze of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/clos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ss/fine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rete / serial/continuous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 / externally pac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e / comple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or high organisational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 of knowledge relating to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tionship with group or lear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ies and equipment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rpose of the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avail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447920" y="1447920"/>
            <a:ext cx="8458200" cy="30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 Black"/>
              </a:rPr>
              <a:t>Presentation of Practi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8:43:53Z</dcterms:created>
  <dc:creator>molly nicholas</dc:creator>
  <dc:description/>
  <dc:language>en-US</dc:language>
  <cp:lastModifiedBy>sullivang</cp:lastModifiedBy>
  <dcterms:modified xsi:type="dcterms:W3CDTF">2011-05-21T23:53:23Z</dcterms:modified>
  <cp:revision>8</cp:revision>
  <dc:subject/>
  <dc:title>PowerPoint Presentation</dc:title>
</cp:coreProperties>
</file>